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0816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46600" y="26413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6972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0816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346600" y="562644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69720" y="1130040"/>
            <a:ext cx="10464840" cy="724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31920" y="562644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31920" y="26413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69720" y="562644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113004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7aaab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" name=""/>
          <p:cNvSpPr/>
          <p:nvPr/>
        </p:nvSpPr>
        <p:spPr>
          <a:xfrm>
            <a:off x="11696760" y="291960"/>
            <a:ext cx="0" cy="508320"/>
          </a:xfrm>
          <a:prstGeom prst="line">
            <a:avLst/>
          </a:prstGeom>
          <a:ln w="25560">
            <a:solidFill>
              <a:srgbClr val="000000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">
            <a:hlinkClick r:id="" action="ppaction://hlinkshowjump?jump=nextslide"/>
          </p:cNvPr>
          <p:cNvSpPr/>
          <p:nvPr/>
        </p:nvSpPr>
        <p:spPr>
          <a:xfrm>
            <a:off x="11976120" y="368280"/>
            <a:ext cx="34272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>
            <a:hlinkClick r:id="" action="ppaction://hlinkshowjump?jump=previousslide"/>
          </p:cNvPr>
          <p:cNvSpPr/>
          <p:nvPr/>
        </p:nvSpPr>
        <p:spPr>
          <a:xfrm flipH="1">
            <a:off x="11073600" y="368280"/>
            <a:ext cx="343080" cy="343080"/>
          </a:xfrm>
          <a:prstGeom prst="rightArrow">
            <a:avLst>
              <a:gd name="adj1" fmla="val 40741"/>
              <a:gd name="adj2" fmla="val 59259"/>
            </a:avLst>
          </a:prstGeom>
          <a:solidFill>
            <a:srgbClr val="ffffff">
              <a:alpha val="60000"/>
            </a:srgbClr>
          </a:solidFill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" name="" descr="">
            <a:hlinkClick r:id="" action="ppaction://hlinkshowjump?jump=firstslide"/>
          </p:cNvPr>
          <p:cNvPicPr/>
          <p:nvPr/>
        </p:nvPicPr>
        <p:blipFill>
          <a:blip r:embed="rId3"/>
          <a:stretch/>
        </p:blipFill>
        <p:spPr>
          <a:xfrm>
            <a:off x="673200" y="380880"/>
            <a:ext cx="355680" cy="355680"/>
          </a:xfrm>
          <a:prstGeom prst="rect">
            <a:avLst/>
          </a:prstGeom>
          <a:ln w="0">
            <a:noFill/>
          </a:ln>
          <a:effectLst>
            <a:outerShdw dist="12600" dir="16200000" blurRad="0" rotWithShape="0">
              <a:srgbClr val="808080">
                <a:alpha val="8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9400" y="102852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Original Path Process</a:t>
            </a:r>
            <a:endParaRPr b="0" lang="en-US" sz="64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64132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Pearpoint, O’Brien &amp; Forest, 1993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34600" y="107928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6. On-going,monitoring and adjusting and celebrating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19240" y="2558880"/>
            <a:ext cx="10764720" cy="5878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Write your specific action steps.  Include who is responsible and dates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7080" y="2704680"/>
            <a:ext cx="10464840" cy="434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7.  </a:t>
            </a: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On-going - Create a climate of belonging: Work with all stakeholders to assume competence, value all students, and build community among students, staff and families.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866960"/>
            <a:ext cx="10464840" cy="5308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Path Process</a:t>
            </a:r>
            <a:br>
              <a:rPr sz="8400"/>
            </a:b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for Inclusion</a:t>
            </a:r>
            <a:br>
              <a:rPr sz="8400"/>
            </a:b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auston-Theoharis &amp;Theoharis, 2009.  Adapted from Pearpoint, O’Brien &amp; Forest, 1993</a:t>
            </a:r>
            <a:endParaRPr b="0" lang="en-US" sz="2400" spc="-1" strike="noStrike">
              <a:solidFill>
                <a:srgbClr val="a7aaab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 rot="21564600">
            <a:off x="760320" y="796680"/>
            <a:ext cx="10528560" cy="80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930400" y="1193760"/>
            <a:ext cx="7137360" cy="67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90082"/>
                </a:solidFill>
                <a:latin typeface="Arial"/>
                <a:ea typeface="Arial"/>
              </a:rPr>
              <a:t>PATH is a tool to strengthen the concepts of Inclusion.  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082"/>
                </a:solidFill>
                <a:latin typeface="Arial"/>
                <a:ea typeface="Arial"/>
              </a:rPr>
              <a:t>It gives people real choices in the proces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082"/>
                </a:solidFill>
                <a:latin typeface="Arial"/>
                <a:ea typeface="Arial"/>
              </a:rPr>
              <a:t>Their needs to be a facilitator and also an administrator to finalize the ideas chosen by the group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082"/>
                </a:solidFill>
                <a:latin typeface="Arial"/>
                <a:ea typeface="Arial"/>
              </a:rPr>
              <a:t>This could be done in a small group and presented to a large group for additional ideas and thoughts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0082"/>
                </a:solidFill>
                <a:latin typeface="Arial"/>
                <a:ea typeface="Arial"/>
              </a:rPr>
              <a:t>It can be hung up and referred to frequently throughout the change.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939600"/>
            <a:ext cx="10464840" cy="1562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1. Vision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137040" y="2425320"/>
            <a:ext cx="6426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Vision: Structure -How we arrange adults and students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Meeting the needs of all in general educa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limate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34600" y="69840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2. What’s happening now?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336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ake inventory about vision.  Also, create a service delivery map that represents how are the services currently provided.  Include where all staff are serving students with diverse needs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26920" y="11682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3. Align School Structures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269720" y="21459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Re-think structures and the use of staff to create teams of paraprofessionals to serve all students inclusively.  Create new service delivery map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38000" y="87624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4. Rethink staffing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0280" y="21459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reate teams of general education teachers, specialists, and paraprofessionals.  Place students into classrooms respecting the natural proportions of the school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69720" y="97776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7aaab"/>
                </a:solidFill>
                <a:latin typeface="Gill Sans"/>
              </a:rPr>
              <a:t>5. Impact classroom practices</a:t>
            </a:r>
            <a:endParaRPr b="0" lang="en-US" sz="4800" spc="-1" strike="noStrike">
              <a:solidFill>
                <a:srgbClr val="a7aaab"/>
              </a:solidFill>
              <a:latin typeface="Gill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1120" y="260316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8000"/>
          </a:bodyPr>
          <a:p>
            <a:pPr marL="781920" indent="-5025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Create and carry out a professional development plan.  What staff development do teachers, paraprofessionals, administrators, etc.  require? Consider: collaboration, differentiation, coteaching, working with challenging behavior, ELL, literacy, etc.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BCIU</cp:lastModifiedBy>
  <dcterms:modified xsi:type="dcterms:W3CDTF">2010-03-22T13:52:03Z</dcterms:modified>
  <cp:revision>2</cp:revision>
  <dc:subject/>
  <dc:title>Original Path Process</dc:title>
</cp:coreProperties>
</file>